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021B-DF31-48D1-98D9-039158954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6C3A-5603-4CD1-AE12-451F7977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ED0F-5926-4912-916F-B7C8322E5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3A6A-B3DA-4D1E-98FB-616064921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AAD9-FC5A-4BF7-8C25-C6B99675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2BE6-FB82-45E9-AF56-03BB5A97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3A10-6C07-405F-ADE5-8A4E0098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0209-21A1-495A-BE82-4E8BC52A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077A-F1A1-4436-B7B9-91450F41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F5F7-4777-4701-A78D-63583CC3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7536-E4F9-4BE2-83F6-D575DD97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D4BB-7275-4B0F-9475-5043E592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4C8A-525B-4DA8-BCD3-426F35F1A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mless Run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14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racy Allen Pe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ver all it changed they became faster they improved I was right they were faster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urther Researc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 need to test more people next time. Maybe have then run 2 time per thing tied not ti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Major observ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people slipped at the beginning of the run make share ever one has running sho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ossible Causes Erro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ke share that ever one has a belt and good sho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se moving you arms affect how fast you can ru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Hypoth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 think it will affect how fast you run if you don’t move your arms. I think it will affect boys more because they always have to be doing something or touch something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ou will need 5 boys, rope, stop watch, meter stic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orden, cody, jadye, brain, camoran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her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her materi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 there arms to there ch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50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them running the 50m with and with out being ti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variab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people run faster moving there arms or without movie there arms. Dose it affect girls or boys m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Dependent Variab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distance will always be 24 yard and 14 1/2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ontrolled Variab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distance is the same through the hole experi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ame    Distance    time tied sec      not tied 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ayde    24y 14.5in        5.78                5.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Zane     24y 14.5in       5.34                 4.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lex      24y 14.5in       5.12                5.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llas   24y 14.5in       5.00               4.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us       24y 14.5in       5.32               4.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drew 24y 14.5in       5.41              5.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4:57:44Z</dcterms:created>
  <dc:creator>USD376</dc:creator>
  <dc:description/>
  <dc:language>en-US</dc:language>
  <cp:lastModifiedBy>USD376</cp:lastModifiedBy>
  <dcterms:modified xsi:type="dcterms:W3CDTF">2011-02-23T14:43:57Z</dcterms:modified>
  <cp:revision>5</cp:revision>
  <dc:subject/>
  <dc:title>Armless Runner</dc:title>
</cp:coreProperties>
</file>